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1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  <p:sldId id="285" r:id="rId37"/>
    <p:sldId id="286" r:id="rId38"/>
    <p:sldId id="287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slide" Target="slides/slide30.xml"/><Relationship Id="rId38" Type="http://schemas.openxmlformats.org/officeDocument/2006/relationships/slide" Target="slides/slide31.xml"/><Relationship Id="rId39" Type="http://schemas.openxmlformats.org/officeDocument/2006/relationships/slide" Target="slides/slide32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30595E-9C71-47AB-84BF-C9FDFCB9F1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7C6E17-F2EC-491B-88EB-E1DC066085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53262-43DD-49E1-AAC8-30E3BDDD71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64EDD-6267-4D2C-BBD8-BA6E949C03B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65595-64AD-4D1A-BF72-1DEA5C58C56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384AD-FBB1-4724-8ED2-CDB72661E20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D4FF4F-470F-4317-8156-D6F5F09D051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B5836A-9C1A-4294-A4ED-E8DEA4A5A08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E400BF-9AD1-4EEF-BF15-C4AB6CD6E9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18135D4-85D3-4DEE-B3DE-A105ADD6A62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132D75-5388-4872-A035-64454999AC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BEDBF-575B-4D51-B6EB-812BBEA3FE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A0EFD9-9F95-4951-A5FA-5A9361418E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F0BE23-5BC8-409D-AD46-2A68FF8DEB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A60C55-E48A-49DB-9CED-ABB8BA65345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CE4A4A8-0738-4C90-B88E-F98682F7AAF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E4DEC3-F38E-4818-8F68-9A2CAA1AC452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BBAAE-DE9E-4397-9F6D-F09A80A1D15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C6FCA-800A-4834-A855-43A7CBA80B28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0D6DE-7307-41F3-9C2B-1788ACFA89D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5B4BC-58A0-46E2-B904-9E09C55A1CF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0C4DB-8C03-422A-8AB4-1DBA6BBEAF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099C7-76FD-4C65-BA66-D455F77BBAE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FBF4-CB3F-4158-9B98-696155816EF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06BFC-402B-4F99-8596-671A2D9145B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21EAA-4C49-4608-B048-9A9D94BDBD3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88B2C-0C32-4AA6-87F0-2FC1ED59F9B5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0969C-C120-4F15-8123-A7BA729E896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13F8D-A6A4-4700-98E5-A183B41DA088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563D4-8506-4970-80EF-E1A53BF88D6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B34624-580B-4370-8139-9517589119E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A2BCB7-A3E5-40B9-BC30-47EA2374A463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70AA21-54F3-4050-9CE6-2B140F7EBBE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960F3-6A3E-468B-AD30-84250985057A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26A00C6-1B4F-4DFF-B30A-DBE66F97AFE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409BFC5-8D05-4D97-89CA-66DBC0C0546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ADD974-1D4F-46B7-8007-BB67232416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A9FEE9-9832-4F39-A41D-523FB454EBB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EA6E441-82AE-464E-91B3-9208D04ACB44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0963B5C-1925-4BE7-AE4F-B07E7EEE674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1C2922-0E9F-4787-82D4-C4B9D2F03538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9DAA82-D590-4DB3-8DB0-57151894FE83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74AB7F-864E-4770-8262-3625C006EAF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7392173-1765-442B-8B0D-F202B099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86035B-21C9-4175-9627-CC931EA0D230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F199B5-91C5-429B-B66D-EF723E5AB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60B20E4-FA9E-4D87-8ACC-E7215F9E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945AC0-FF01-4913-AEA3-BBD26594C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517331-6072-4B16-9372-F076F97AB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04C4A03-6B7B-4AD0-BAB3-9468F2CFB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94BFC85-CB0F-4E5F-8AFD-1DF10B0D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286F8B-F4C9-41D7-8619-3A9D56B5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2AA5DCB-617B-44F3-99B1-C4843EDFB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DCF145-428C-4398-9B1B-F72593B0D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45AD29-C8DB-4CAA-83F9-730595B7E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9457DF-797A-434A-A6EF-7E4E4C1CA55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1E7F0FE-EF70-4E48-9DC7-818355F6A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50A29-A88B-4829-9EE5-46486E5166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11988F-67ED-43AC-A261-6C61A4A0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6D0628-DF8B-4CF1-A5D5-70903C057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D71C1E5-6E1B-4A47-823B-3E644CEB8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D56FFF4-93BE-4BB1-B8FD-DA1388A48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990720"/>
            <a:ext cx="822960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6B8ED71-5711-4118-99B3-E7849CA9E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4C1137-0E22-479C-AD7F-F15887E29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EFCCAD-E9E6-443F-A776-FF60E982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1E6C1A0-EAE6-4D2C-9017-4A9CBE3CA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BCDDB-69A6-456C-8038-C877D3B93CF1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7B3A0F4-7873-4799-ABE7-A3400F326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F74C7C7-8FCD-4A91-B45A-C267A5DEB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23317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4576320"/>
            <a:ext cx="264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C68D2EA-19CF-442D-91A1-1424BBD25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5763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EA3271-F397-4929-A589-D9046710F2C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2331720"/>
            <a:ext cx="40158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576320"/>
            <a:ext cx="8229600" cy="204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C935-34BB-41A9-B364-30E8454202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B5E32-9A81-4A0A-9ED8-706D1D355D5D}" type="slidenum"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7" descr=""/>
          <p:cNvPicPr/>
          <p:nvPr/>
        </p:nvPicPr>
        <p:blipFill>
          <a:blip r:embed="rId5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4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3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4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CBA7B-D5D6-4620-9F6B-7E031AA57FBD}" type="slidenum"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5"/>
          </p:nvPr>
        </p:nvSpPr>
        <p:spPr>
          <a:xfrm>
            <a:off x="685440" y="6476760"/>
            <a:ext cx="1676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6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E7B10-6D90-40D6-BE82-52CE82A99850}" type="slidenum"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7" descr=""/>
          <p:cNvPicPr/>
          <p:nvPr/>
        </p:nvPicPr>
        <p:blipFill>
          <a:blip r:embed="rId5"/>
          <a:stretch/>
        </p:blipFill>
        <p:spPr>
          <a:xfrm>
            <a:off x="3981600" y="1898640"/>
            <a:ext cx="1180800" cy="306072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7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sldNum" idx="8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88597-7572-4329-9BC7-C74D99E60FC5}" type="slidenum"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74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0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1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B3320-26C3-4CDC-B9A7-6289AAC40200}" type="slidenum"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Kuva 4" descr="kans_ppt_eur_3.pdf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8" name="Kuva 9" descr=""/>
          <p:cNvPicPr/>
          <p:nvPr/>
        </p:nvPicPr>
        <p:blipFill>
          <a:blip r:embed="rId3"/>
          <a:stretch/>
        </p:blipFill>
        <p:spPr>
          <a:xfrm>
            <a:off x="228600" y="6407280"/>
            <a:ext cx="465120" cy="4507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7" descr=""/>
          <p:cNvPicPr/>
          <p:nvPr/>
        </p:nvPicPr>
        <p:blipFill>
          <a:blip r:embed="rId4"/>
          <a:stretch/>
        </p:blipFill>
        <p:spPr>
          <a:xfrm rot="15798000">
            <a:off x="1609560" y="-882720"/>
            <a:ext cx="1181160" cy="30607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Lucida Grand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3"/>
          </p:nvPr>
        </p:nvSpPr>
        <p:spPr>
          <a:xfrm>
            <a:off x="60912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4"/>
          </p:nvPr>
        </p:nvSpPr>
        <p:spPr>
          <a:xfrm>
            <a:off x="22824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1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55DB3-56CD-461B-A44F-3D4FF4CD0895}" type="slidenum">
              <a:rPr b="0" lang="fi-FI" sz="11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8.jpe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9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6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fi-FI" sz="6000" spc="-1" strike="noStrike">
                <a:solidFill>
                  <a:srgbClr val="000000"/>
                </a:solidFill>
                <a:latin typeface="Calibri"/>
                <a:ea typeface="Calibri"/>
              </a:rPr>
              <a:t>I</a:t>
            </a:r>
            <a:r>
              <a:rPr b="1" lang="fi-FI" sz="6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fi-FI" sz="6000" spc="-1" strike="noStrike">
                <a:solidFill>
                  <a:srgbClr val="000000"/>
                </a:solidFill>
                <a:latin typeface="Calibri"/>
                <a:ea typeface="Calibri"/>
              </a:rPr>
              <a:t>Eurooppalaisuutta </a:t>
            </a:r>
            <a:r>
              <a:rPr b="1" lang="fi-FI" sz="6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fi-FI" sz="60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1" lang="fi-FI" sz="6000" spc="-1" strike="noStrike">
                <a:solidFill>
                  <a:srgbClr val="000000"/>
                </a:solidFill>
                <a:latin typeface="Calibri"/>
                <a:ea typeface="Calibri"/>
              </a:rPr>
              <a:t>    etsimässä</a:t>
            </a:r>
            <a:br>
              <a:rPr sz="6000"/>
            </a:br>
            <a:endParaRPr b="1" lang="en-US" sz="6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6840" y="2708280"/>
            <a:ext cx="721044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ppikirjan sivut 12-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 algn="ctr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Mistä tulet, Eurooppa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 algn="ctr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Kansalaisten Euroo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514440" algn="ctr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Nuorten Euroo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Calibri"/>
                <a:ea typeface="Calibri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942F5-CB74-4BA5-8EAC-6C8C19A041E7}" type="slidenum">
              <a:rPr b="0" lang="fi-FI" sz="1100" spc="-1" strike="noStrike">
                <a:solidFill>
                  <a:srgbClr val="800000"/>
                </a:solidFill>
                <a:latin typeface="Calibri"/>
                <a:ea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Kuva 7" descr=""/>
          <p:cNvPicPr/>
          <p:nvPr/>
        </p:nvPicPr>
        <p:blipFill>
          <a:blip r:embed="rId2"/>
          <a:stretch/>
        </p:blipFill>
        <p:spPr>
          <a:xfrm>
            <a:off x="1547640" y="342900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Euroidentiteetti käytännössä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:n kansalaisia yhdistävät eniten käytännön asiat, esi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4 vapautta: työvoiman, tavaroiden, palvelujen ja pääomien vapaa liikkuminen yli rajoj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eur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yhteinen maksualue SE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roidentiteetti voisi vahvistua korostamalla poliittista ja taloudellista yhteenkuuluvu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024E-F428-472F-9211-09BB08B5F50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Kuva 7" descr=""/>
          <p:cNvPicPr/>
          <p:nvPr/>
        </p:nvPicPr>
        <p:blipFill>
          <a:blip r:embed="rId3"/>
          <a:stretch/>
        </p:blipFill>
        <p:spPr>
          <a:xfrm>
            <a:off x="7812000" y="404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Tehtävä: euro- ja Suomen symboli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Palauta mieleesi EU:n symbol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Pohdi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Mitkä ovat tai olivat Suomen vastaavat kansalliset symboli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Milloin nämä symbolit otettiin käyttöön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Missä määrin erilaiset symbolit luovat mielestäsi nykypäivänä identiteettiä yksilölle / kansalle / Euroopall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9468A-8A04-4D73-B2D5-F9F96BCF8B6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Kuva 9" descr=""/>
          <p:cNvPicPr/>
          <p:nvPr/>
        </p:nvPicPr>
        <p:blipFill>
          <a:blip r:embed="rId3"/>
          <a:stretch/>
        </p:blipFill>
        <p:spPr>
          <a:xfrm>
            <a:off x="8101080" y="54936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Tehtävä: euroidentiteetti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844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Euroopassa on n. 70 eri kieliryhmää ja kansakuntaa. Poimi esimerkkejä kansakunnista Euroopassa, jo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a) on paljon yhteisiä identiteettipiirtei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b) on hyvin vähän yhteistä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Pohdi, millaiset tekijät erottavat eurooppalaisia kansakuntia toisista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3) Koetko tarpeelliseksi erityisen euroidentiteetin rakentamisen? Perustele näkemyksesi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A2B5-E2F3-4739-8E41-277BA40D330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Kuva 9" descr=""/>
          <p:cNvPicPr/>
          <p:nvPr/>
        </p:nvPicPr>
        <p:blipFill>
          <a:blip r:embed="rId1"/>
          <a:stretch/>
        </p:blipFill>
        <p:spPr>
          <a:xfrm>
            <a:off x="7956720" y="54936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1125000"/>
            <a:ext cx="777240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  <a:ea typeface="Calibri"/>
              </a:rPr>
              <a:t>2. Kansalaisten Eurooppa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1371600" y="3352680"/>
            <a:ext cx="6400800" cy="32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ppikirjan sivut 24-2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Ydinsisällö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untitehtä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ppikirjan tehtävien vastau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9594A-7F1A-487B-95B3-98B86B883E3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Kuva 9" descr=""/>
          <p:cNvPicPr/>
          <p:nvPr/>
        </p:nvPicPr>
        <p:blipFill>
          <a:blip r:embed="rId1"/>
          <a:stretch/>
        </p:blipFill>
        <p:spPr>
          <a:xfrm>
            <a:off x="2987640" y="443700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Euroopan unionin kansalaisu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457200" y="1844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:n kansalaisuus luotiin Maastrichtin sopimuksella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-kansalaisuus täydentää kunkin jäsenvaltion kansalaisuutta sitä korvaama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kaikkien jäsenvaltioiden kansalaiset ovat myös EU:n kansalais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:n kansalaiselle kuuluvat seuraavat oikeude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0EF2-6DAE-4870-A601-9D8D1029D63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Kuva 7" descr=""/>
          <p:cNvPicPr/>
          <p:nvPr/>
        </p:nvPicPr>
        <p:blipFill>
          <a:blip r:embed="rId5"/>
          <a:stretch/>
        </p:blipFill>
        <p:spPr>
          <a:xfrm>
            <a:off x="7956720" y="549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1) liikkumis- ja oleskeluoikeus koko EU:n alueel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2) äänioikeus ja vaalikelpoisuus EU- ja kunnallisvaaleissa asuinmaassa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3) oikeus saada suojelua toisen EU-maan edustustolta unionin ulkopuolisessa maassa, jossa ei ole oman maan lähettilästä tai konsu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4) oikeus vedota Euroopan parlamenttiin sekä kannella komissiolle ja Euroopan oikeusasiamiehel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5) oikeus kirjoittaa EU:n toimielimille millä tahansa unionin virallisella kielel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3B8B5-338F-4FB0-B932-63C381DFB170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Kuva 7" descr=""/>
          <p:cNvPicPr/>
          <p:nvPr/>
        </p:nvPicPr>
        <p:blipFill>
          <a:blip r:embed="rId1"/>
          <a:stretch/>
        </p:blipFill>
        <p:spPr>
          <a:xfrm>
            <a:off x="7956720" y="62064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Schengenin sopim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1844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= EU:n, Norjan, Islannin ja Sveitsin sopimus keskinäisten rajamuodollisuuksien poistamisesta ja yhteisestä ulkoraja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maat muodostavat Schengen-alueen, jolla on yhteinen ulkorajavalvonta eikä järjestelmällisiä rajatarkastuksia maiden välill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maassa on pidettävä mukana ne matkustusasiakirjat, joita maa vaat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B6A94-61E3-4A74-95D4-98342B17B39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Kuva 7" descr=""/>
          <p:cNvPicPr/>
          <p:nvPr/>
        </p:nvPicPr>
        <p:blipFill>
          <a:blip r:embed="rId4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Sisällön paikkamerkki 2" descr=""/>
          <p:cNvPicPr/>
          <p:nvPr/>
        </p:nvPicPr>
        <p:blipFill>
          <a:blip r:embed="rId1"/>
          <a:stretch/>
        </p:blipFill>
        <p:spPr>
          <a:xfrm>
            <a:off x="390600" y="920880"/>
            <a:ext cx="8302680" cy="5211720"/>
          </a:xfrm>
          <a:prstGeom prst="rect">
            <a:avLst/>
          </a:prstGeom>
          <a:ln w="0">
            <a:noFill/>
          </a:ln>
        </p:spPr>
      </p:pic>
      <p:sp>
        <p:nvSpPr>
          <p:cNvPr id="34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1F1FE-31C6-4465-AA45-9ADBA30F60B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Picture 5" descr="C:\Users\Kaisa\AppData\Local\Temp\shutterstock_18723694.jpg"/>
          <p:cNvPicPr/>
          <p:nvPr/>
        </p:nvPicPr>
        <p:blipFill>
          <a:blip r:embed="rId2"/>
          <a:stretch/>
        </p:blipFill>
        <p:spPr>
          <a:xfrm>
            <a:off x="539640" y="3500280"/>
            <a:ext cx="3335400" cy="2305080"/>
          </a:xfrm>
          <a:prstGeom prst="rect">
            <a:avLst/>
          </a:prstGeom>
          <a:ln w="0">
            <a:noFill/>
          </a:ln>
        </p:spPr>
      </p:pic>
      <p:pic>
        <p:nvPicPr>
          <p:cNvPr id="348" name="Kuva 7" descr=""/>
          <p:cNvPicPr/>
          <p:nvPr/>
        </p:nvPicPr>
        <p:blipFill>
          <a:blip r:embed="rId3"/>
          <a:stretch/>
        </p:blipFill>
        <p:spPr>
          <a:xfrm>
            <a:off x="7885080" y="333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Schengen-alueen laajentumin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sopimukseen liittyivät vähitellen unionin muut jäsenmaat, paitsi Iso-Britannia ja Irlant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2001 Suomi ja muut Pohjoisma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2007 liittyivät 2004 unioniin tulleet maat, paitsi Kypr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Romania ja Bulgaria eivät kuulu Schengen-alueese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sopimusta sovelletaan käytännössä myös Monacossa, Vatikaanissa ja San Marinoss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8224-1B7B-4D99-B0A6-E1B048A2171F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Kuva 7" descr=""/>
          <p:cNvPicPr/>
          <p:nvPr/>
        </p:nvPicPr>
        <p:blipFill>
          <a:blip r:embed="rId2"/>
          <a:stretch/>
        </p:blipFill>
        <p:spPr>
          <a:xfrm>
            <a:off x="7667640" y="404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Schengen-alueen hyödyt ja haita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2708280"/>
            <a:ext cx="404028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sopimus helpottaa liikkumista EU-maiden välill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etenkin nuoret käyttäneet hyväkseen: siirtyminen toiseen maahan työn tai opintojen perässä helppo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3600" y="2133360"/>
            <a:ext cx="4041720" cy="647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Hyöty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4644720" y="2708280"/>
            <a:ext cx="4041720" cy="38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Rajojen yli liikkuvat help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myö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rikollisu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huumekaup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varastettu tav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laittomat maahanmuuttaja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43280" y="2276640"/>
            <a:ext cx="404208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400" spc="-1" strike="noStrike">
                <a:solidFill>
                  <a:srgbClr val="000000"/>
                </a:solidFill>
                <a:latin typeface="Calibri"/>
                <a:ea typeface="Calibri"/>
              </a:rPr>
              <a:t>Haitta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latunnisteen paikkamerkki 7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Dian numeron paikkamerkki 6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815D-D6BF-48C7-A7A0-22450301A5D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Kuva 7" descr=""/>
          <p:cNvPicPr/>
          <p:nvPr/>
        </p:nvPicPr>
        <p:blipFill>
          <a:blip r:embed="rId8"/>
          <a:stretch/>
        </p:blipFill>
        <p:spPr>
          <a:xfrm>
            <a:off x="7956720" y="549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134100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Arial"/>
              </a:rPr>
              <a:t>1. Mistä tulet, Eurooppa?</a:t>
            </a:r>
            <a:endParaRPr b="1" lang="en-US" sz="4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2852640"/>
            <a:ext cx="749952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ppikirjan sivut 12 – 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Ydinsisällö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untitehtä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ppikirjan tehtävien vastau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5A00E-CECF-4D0F-BA8C-C1553E87849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Kuva 9" descr=""/>
          <p:cNvPicPr/>
          <p:nvPr/>
        </p:nvPicPr>
        <p:blipFill>
          <a:blip r:embed="rId2"/>
          <a:stretch/>
        </p:blipFill>
        <p:spPr>
          <a:xfrm>
            <a:off x="2987640" y="4005360"/>
            <a:ext cx="380880" cy="406440"/>
          </a:xfrm>
          <a:prstGeom prst="rect">
            <a:avLst/>
          </a:prstGeom>
          <a:ln w="0">
            <a:noFill/>
          </a:ln>
        </p:spPr>
      </p:pic>
      <p:pic>
        <p:nvPicPr>
          <p:cNvPr id="271" name="Kuva 5" descr=""/>
          <p:cNvPicPr/>
          <p:nvPr/>
        </p:nvPicPr>
        <p:blipFill>
          <a:blip r:embed="rId3"/>
          <a:stretch/>
        </p:blipFill>
        <p:spPr>
          <a:xfrm>
            <a:off x="1692360" y="4437000"/>
            <a:ext cx="503280" cy="504720"/>
          </a:xfrm>
          <a:prstGeom prst="rect">
            <a:avLst/>
          </a:prstGeom>
          <a:ln w="0">
            <a:noFill/>
          </a:ln>
        </p:spPr>
      </p:pic>
      <p:pic>
        <p:nvPicPr>
          <p:cNvPr id="272" name="Kuva 7" descr=""/>
          <p:cNvPicPr/>
          <p:nvPr/>
        </p:nvPicPr>
        <p:blipFill>
          <a:blip r:embed="rId4"/>
          <a:stretch/>
        </p:blipFill>
        <p:spPr>
          <a:xfrm>
            <a:off x="2627280" y="3500280"/>
            <a:ext cx="43200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7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Tehtäviä: Unionin kansalaisu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Mikä Euroopan unionin kansalaisen oikeuksista ei toteudu koko unionin alueella ja miksi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Miksi yhteinen unionin kansalaisuus on haluttu luod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3) Mitä unionikansalaisuuden mukanaan tuomaa oikeutta pidät tärkeimpänä yksittäisen kansalaisen kannalta? Perustele kantas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1DDE-DCAC-4746-8645-53BB3952351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5" name="Kuva 7" descr=""/>
          <p:cNvPicPr/>
          <p:nvPr/>
        </p:nvPicPr>
        <p:blipFill>
          <a:blip r:embed="rId4"/>
          <a:stretch/>
        </p:blipFill>
        <p:spPr>
          <a:xfrm>
            <a:off x="781200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Tehtäviä: Schengenin sopim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57200" y="184428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Mitä hyötyä ja haittaa on Schengenin sopimukse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Miksi osa unionimaista halunnut jäädä sopimuksen ulkopuole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3) Ota selville, mitä tarkoitti pohjoismainen passiunioni ja kuinka kauan se toim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4) Tutustu internetissä Vapaa liikkuvuus –ryhmään. Mitä ryhmä ajaa ja mitä vastustaa? Mitä itse olet mieltä ryhmän ajatuksis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47E6B-22A6-4DE0-B3E7-2BDD5D345B7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Kuva 7" descr=""/>
          <p:cNvPicPr/>
          <p:nvPr/>
        </p:nvPicPr>
        <p:blipFill>
          <a:blip r:embed="rId1"/>
          <a:stretch/>
        </p:blipFill>
        <p:spPr>
          <a:xfrm>
            <a:off x="7956720" y="404640"/>
            <a:ext cx="463320" cy="457200"/>
          </a:xfrm>
          <a:prstGeom prst="rect">
            <a:avLst/>
          </a:prstGeom>
          <a:ln w="0">
            <a:noFill/>
          </a:ln>
        </p:spPr>
      </p:pic>
      <p:sp>
        <p:nvSpPr>
          <p:cNvPr id="371" name="Ellipsi 6"/>
          <p:cNvSpPr/>
          <p:nvPr/>
        </p:nvSpPr>
        <p:spPr>
          <a:xfrm>
            <a:off x="4932360" y="3789360"/>
            <a:ext cx="2592360" cy="7192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Käytä internetlähteitä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1844280"/>
            <a:ext cx="7772400" cy="112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5000" spc="-1" strike="noStrike">
                <a:solidFill>
                  <a:srgbClr val="000000"/>
                </a:solidFill>
                <a:latin typeface="Calibri"/>
                <a:ea typeface="Calibri"/>
              </a:rPr>
              <a:t>3. Nuorten Eurooppa</a:t>
            </a:r>
            <a:endParaRPr b="1" lang="en-US" sz="5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1371600" y="3141720"/>
            <a:ext cx="6400800" cy="348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ppikirjan sivut 30-3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Ydinsisällö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untitehtävä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ppikirjan tehtävien vastauk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9C5A-AD2F-446B-A694-8D4EC19E7D92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6" name="Kuva 9" descr=""/>
          <p:cNvPicPr/>
          <p:nvPr/>
        </p:nvPicPr>
        <p:blipFill>
          <a:blip r:embed="rId1"/>
          <a:stretch/>
        </p:blipFill>
        <p:spPr>
          <a:xfrm>
            <a:off x="2916360" y="429264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Euroopan unioni ja nuoret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 tiedottaa toiminnastaan ja unionin tarjoamista mahdollisuuksista paljon nuor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austa-ajatuksena on, että valtaosa nuorista suhtautuu myönteisesti eurooppalaisuut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:lla on runsaasti erilaisia toimintaohjelmia, jotka on suunnattu nuor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arkoituksena on edistää nuorten koulutusta, työllistymistä ja kansainvälistymistä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38DE8-22C3-451D-948F-8631DF1A840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Kuva 7" descr=""/>
          <p:cNvPicPr/>
          <p:nvPr/>
        </p:nvPicPr>
        <p:blipFill>
          <a:blip r:embed="rId6"/>
          <a:stretch/>
        </p:blipFill>
        <p:spPr>
          <a:xfrm>
            <a:off x="7740720" y="549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126828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EU:n toimintaohjelmia nuorille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Comen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Youth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Leonardo da Vi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Grundtv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ra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rasmus Mu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5B92B-06F8-48BA-B188-57C85D04FF3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Kuva 7" descr=""/>
          <p:cNvPicPr/>
          <p:nvPr/>
        </p:nvPicPr>
        <p:blipFill>
          <a:blip r:embed="rId7"/>
          <a:stretch/>
        </p:blipFill>
        <p:spPr>
          <a:xfrm>
            <a:off x="7740720" y="692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Comeni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hjelman tarkoitus on parantaa kouluopetuksen laatua, lisätä liikkuvuutta ja vahvistaa eurooppalaisuutta opetukse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rimaalaiset koulut voivat tehdä oppilas- ja opettajavaihtoa ja muuta yhteistyöt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simerkki tästä on koulukumppanuus, jossa osallistutaan yhteisiin oppimishankkeisiin muiden eurooppalaisten koulujen kan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63968-F660-4C20-82FE-50FDFAF41A5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" name="Kuva 7" descr=""/>
          <p:cNvPicPr/>
          <p:nvPr/>
        </p:nvPicPr>
        <p:blipFill>
          <a:blip r:embed="rId4"/>
          <a:stretch/>
        </p:blipFill>
        <p:spPr>
          <a:xfrm>
            <a:off x="781200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Youth in Action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7200" y="1989000"/>
            <a:ext cx="82296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avoitteena on edistää eurooppalaisten nuorten aktiivista kansalaisuutta, yhteisvastuullisuutta ja suvaitsevaisuutt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sim. Nuorten Eurooppa –ohjelma tukee nuorten ryhmätapaamisia, nuorisoaloitteita ja nuorten demokratiahankkei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rooppalainen vapaaehtoispalvelu antaa mahdollisuuden suorittaa korkeintaan 12 kuukauden vapaaehtoispalvelun ulkomaill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B741-377E-4FA4-B59B-AEDE564843F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Kuva 7" descr=""/>
          <p:cNvPicPr/>
          <p:nvPr/>
        </p:nvPicPr>
        <p:blipFill>
          <a:blip r:embed="rId1"/>
          <a:stretch/>
        </p:blipFill>
        <p:spPr>
          <a:xfrm>
            <a:off x="7596360" y="549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Leonardo da Vinci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Leonardo pyrkii edistämään ammatillisen koulutuksen kansainvälistymistä, osaamista ja innovaatioiden siirto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arkoitus on parantaa eurooppalaisten työnsaantimahdollisuuksia muuttuvilla työmarkkino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hjelma tukee esimerkiksi opiskelua, harjoittelua ja opintovierailuja ulkomailla sekä erilaisia kansainvälisiä hankkeita ja verkosto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19F25-EFC0-441B-A603-CC5572F12910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Kuva 7" descr=""/>
          <p:cNvPicPr/>
          <p:nvPr/>
        </p:nvPicPr>
        <p:blipFill>
          <a:blip r:embed="rId1"/>
          <a:stretch/>
        </p:blipFill>
        <p:spPr>
          <a:xfrm>
            <a:off x="7451640" y="620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Grundtvig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457200" y="1989000"/>
            <a:ext cx="8229600" cy="464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Grundtvig-ohjelma on suunnattu vähän koulutetuille aikuisopiskelijoille, esimerkiksi koulun aikanaan kesken jättäne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rityisesti tuetaan henkilöitä, joilta puuttuu peruskoulutus tai –tutkinto, maaseudulla tai kehitysalueilla asuvia tai sosioekonomisesti heikossa asemassa olev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hjelma toteuttaa esim. hankkeita, verkostoja ja kansainvälistä työpajatoimintaa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6C9D6-3F0E-4105-BDBB-DED427EDDE34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Kuva 7" descr=""/>
          <p:cNvPicPr/>
          <p:nvPr/>
        </p:nvPicPr>
        <p:blipFill>
          <a:blip r:embed="rId1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Erasm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457200" y="191628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rasmus-ohjelma tukee yliopistojen ja ammattikorkeakoulujen opiskelijoiden kansainvälistä liikkuvuut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hjelma perustettiin 1987; yli 2 miljoonaa opiskelijaa osallistun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piskelijat voivat opiskella 3 - 12 kuukautta ulkomaalaisessa korkeakoulu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lukukausimaksuja ei peritä ja opinnot luetaan hyväksi omassa korkeakoulu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1B3E-C85D-46C8-9886-3C0FB925ABA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Kuva 7" descr=""/>
          <p:cNvPicPr/>
          <p:nvPr/>
        </p:nvPicPr>
        <p:blipFill>
          <a:blip r:embed="rId1"/>
          <a:stretch/>
        </p:blipFill>
        <p:spPr>
          <a:xfrm>
            <a:off x="7596360" y="692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Euroopp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maailman 2. pienin maano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ala: runsas 10 miljoonaa km² ja väestö: 730 miljoona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maantieteelliset raj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Ural-vuoris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Kaspianmeri, Kaukasus-vuoret ja Mustam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Bosporinsalmi, Egeanmeri, Välimeri ja Gibralt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Atlantti, Tanskansalmi Grönlannin ja Islannin välissä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Calibri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Pohjoinen Jäämer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355C4-DA5F-4C98-8F82-29EC946BA51C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Kuva 7" descr=""/>
          <p:cNvPicPr/>
          <p:nvPr/>
        </p:nvPicPr>
        <p:blipFill>
          <a:blip r:embed="rId4"/>
          <a:stretch/>
        </p:blipFill>
        <p:spPr>
          <a:xfrm>
            <a:off x="7885080" y="54936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Erasmus Mund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rasmus Mundus –ohjelman tarkoituksena on lisätä liikkuvuutta EU:n ja muun maailman korkeakoulujen välill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hjelmasta annetaan apurahoja opiskelijoille ja tutkijoille kansainväliseen yhteistyöhö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ohjelma haluaa kehittää myös eurooppalaisen korkeakoulutuksen vetovoimaa ja näkyvyyttä muualla maailmas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36DA1-2A95-4BB7-8175-0F5BA8C85508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Kuva 7" descr=""/>
          <p:cNvPicPr/>
          <p:nvPr/>
        </p:nvPicPr>
        <p:blipFill>
          <a:blip r:embed="rId4"/>
          <a:stretch/>
        </p:blipFill>
        <p:spPr>
          <a:xfrm>
            <a:off x="7740720" y="47628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Tehtäviä: Nuorten Eurooppa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457200" y="2060280"/>
            <a:ext cx="8229600" cy="456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Miksi EU on panostanut juuri nuoriin perustamalla erilaisia toimintaohjelmi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Tutustu pari- tai ryhmätyönä yhteen EU:n toimintaohjelmista ja esittele se muulle opetusryhmälle. Pohdi seuraavi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Kenelle ohjelma on tarkoitettu? Kuka voi hakea ohjelmaan? Ketkä siitä hyötyvät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Miten ohjelmaa toteutetaan käytännössä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D797-EC72-4DCD-BE2C-41E06915C657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1" name="Kuva 9" descr=""/>
          <p:cNvPicPr/>
          <p:nvPr/>
        </p:nvPicPr>
        <p:blipFill>
          <a:blip r:embed="rId3"/>
          <a:stretch/>
        </p:blipFill>
        <p:spPr>
          <a:xfrm>
            <a:off x="7667640" y="47628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Comeni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Youth in 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3) Leonardo da Vin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4) Grundtvi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5) Erasm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6) Erasmus Mund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7) Tem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Alatunnisteen paikkamerkki 3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Dian numeron paikkamerkki 2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33370-B405-4D44-812C-172C32BE41D6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Kuva 9" descr=""/>
          <p:cNvPicPr/>
          <p:nvPr/>
        </p:nvPicPr>
        <p:blipFill>
          <a:blip r:embed="rId8"/>
          <a:stretch/>
        </p:blipFill>
        <p:spPr>
          <a:xfrm>
            <a:off x="7956720" y="549360"/>
            <a:ext cx="380880" cy="406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0" y="119700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  <a:ea typeface="Calibri"/>
              </a:rPr>
              <a:t> </a:t>
            </a:r>
            <a:r>
              <a:rPr b="1" lang="fi-FI" sz="4000" spc="-1" strike="noStrike">
                <a:solidFill>
                  <a:srgbClr val="800000"/>
                </a:solidFill>
                <a:latin typeface="Calibri"/>
                <a:ea typeface="Calibri"/>
              </a:rPr>
              <a:t>Mitä on eurooppalainen identiteetti?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2204640"/>
            <a:ext cx="822960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identiteetti = samuus, yhtäläisyys, omin ominaislaatu; piirteet, jotka erottavat ryhmän tois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usko ja käsitys tästä on olennaisempaa kuin fakt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identiteetti on sekä sisään sulkemista että ulos rajaam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toiseus eli joidenkin ulos rajaaminen on ollut yleistä Euroopan historiass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Alatunnisteen paikkamerkki 6"/>
          <p:cNvSpPr/>
          <p:nvPr/>
        </p:nvSpPr>
        <p:spPr>
          <a:xfrm>
            <a:off x="684360" y="6477120"/>
            <a:ext cx="167616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ian numeron paikkamerkki 5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16B83-8F82-4B59-8995-5A96F50095D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yöristetty suorakulmio 4"/>
          <p:cNvSpPr/>
          <p:nvPr/>
        </p:nvSpPr>
        <p:spPr>
          <a:xfrm>
            <a:off x="4716360" y="115920"/>
            <a:ext cx="4427640" cy="7700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Arial"/>
              </a:rPr>
              <a:t>Pohdi esimerkkejä ryhmistä, joita on rajattu ulos eri aikoina Euroopas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Kuva 7" descr=""/>
          <p:cNvPicPr/>
          <p:nvPr/>
        </p:nvPicPr>
        <p:blipFill>
          <a:blip r:embed="rId3"/>
          <a:stretch/>
        </p:blipFill>
        <p:spPr>
          <a:xfrm>
            <a:off x="7885080" y="198900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400" spc="-1" strike="noStrike">
                <a:solidFill>
                  <a:srgbClr val="800000"/>
                </a:solidFill>
                <a:latin typeface="Calibri"/>
                <a:ea typeface="Calibri"/>
              </a:rPr>
              <a:t>”</a:t>
            </a:r>
            <a:r>
              <a:rPr b="1" lang="fi-FI" sz="3400" spc="-1" strike="noStrike">
                <a:solidFill>
                  <a:srgbClr val="800000"/>
                </a:solidFill>
                <a:latin typeface="Calibri"/>
                <a:ea typeface="Calibri"/>
              </a:rPr>
              <a:t>Kulttuurinen kolmijalka” antiikista – eurooppalaisuuden ydin?</a:t>
            </a:r>
            <a:endParaRPr b="1" lang="en-US" sz="3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2133360"/>
            <a:ext cx="82296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kreikkalainen rationalism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järkiperäinen ajattelu, tieteet, filosof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toisaalta: kreikkalaiset huikentelevaisia, taiteellisi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roomalainen oik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Rooman laki ja laillisuususko, kansalaisen oikeude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toisaalta: kuri verrattuna kreikkalaisii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3) kristinusk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lähimmäisenrakkaus, tasa-arv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8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  <a:ea typeface="Calibri"/>
              </a:rPr>
              <a:t>toisaalta: juutalais-kristillinen suvaitsemattomuu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A0D32-BC25-4295-A528-AC620F3ADE01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Kuva 7" descr=""/>
          <p:cNvPicPr/>
          <p:nvPr/>
        </p:nvPicPr>
        <p:blipFill>
          <a:blip r:embed="rId1"/>
          <a:stretch/>
        </p:blipFill>
        <p:spPr>
          <a:xfrm>
            <a:off x="7956720" y="54936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042560" y="1197000"/>
            <a:ext cx="7643880" cy="79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800" spc="-1" strike="noStrike">
                <a:solidFill>
                  <a:srgbClr val="800000"/>
                </a:solidFill>
                <a:latin typeface="Calibri"/>
                <a:ea typeface="Calibri"/>
              </a:rPr>
              <a:t>EU:n identiteetin rakennus</a:t>
            </a:r>
            <a:endParaRPr b="1" lang="en-US" sz="3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roopan unioni ja sen edeltäjät (EEC, EY) ovat pyrkineet rakentamaan eurooppalaista identiteettiä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identiteettiohjelma on painottunu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yhteisten symboleiden luomise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eurooppalaisten elämää yhtenäistäviin toimiin (esim. euro, vapaa liikkuvuus, yhteinen maksualu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17EC-3FE8-4B47-B57F-068F38FCEA7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Kuva 7" descr=""/>
          <p:cNvPicPr/>
          <p:nvPr/>
        </p:nvPicPr>
        <p:blipFill>
          <a:blip r:embed="rId3"/>
          <a:stretch/>
        </p:blipFill>
        <p:spPr>
          <a:xfrm>
            <a:off x="7885080" y="47628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125000"/>
            <a:ext cx="822960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  <a:ea typeface="Calibri"/>
              </a:rPr>
              <a:t>Yhteiset EU-symbolit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lippu – 12 tähteä, ”Marian kehrä”, 19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hymni – Schiller, Beethoven: ”An die Freude”, 197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rooppa-päivä 9.5. (← Schumanin julistu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tunnuslause: ”In varietate concordia” (”Moninaisuudessaan yhtenäinen”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-kansalaisuus 199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-ajokortti ja –passi 19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1EB14-09AE-4996-B5EC-5539EC01A6AA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C:\Users\Kaisa\AppData\Local\Temp\shutterstock_50634871.jpg"/>
          <p:cNvPicPr/>
          <p:nvPr/>
        </p:nvPicPr>
        <p:blipFill>
          <a:blip r:embed="rId7"/>
          <a:srcRect l="4726" t="11936" r="5499" b="10505"/>
          <a:stretch/>
        </p:blipFill>
        <p:spPr>
          <a:xfrm>
            <a:off x="6372360" y="1125360"/>
            <a:ext cx="1800000" cy="1151280"/>
          </a:xfrm>
          <a:prstGeom prst="rect">
            <a:avLst/>
          </a:prstGeom>
          <a:ln w="0">
            <a:noFill/>
          </a:ln>
        </p:spPr>
      </p:pic>
      <p:pic>
        <p:nvPicPr>
          <p:cNvPr id="299" name="Kuva 7" descr=""/>
          <p:cNvPicPr/>
          <p:nvPr/>
        </p:nvPicPr>
        <p:blipFill>
          <a:blip r:embed="rId8"/>
          <a:stretch/>
        </p:blipFill>
        <p:spPr>
          <a:xfrm>
            <a:off x="8244000" y="40464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Alatunnisteen paikkamerkki 5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Dian numeron paikkamerkki 4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1FD77-BA54-4143-8ECB-0D5C6129C975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-360" y="642600"/>
            <a:ext cx="7761240" cy="54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-rekisterikilpitunnukset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eurosetelit ja –kolikot 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yhteinen maksualue SEPA (Single European Payment Area)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6" descr="C:\Users\Kaisa\AppData\Local\Temp\shutterstock_70562941.jpg"/>
          <p:cNvPicPr/>
          <p:nvPr/>
        </p:nvPicPr>
        <p:blipFill>
          <a:blip r:embed="rId5"/>
          <a:stretch/>
        </p:blipFill>
        <p:spPr>
          <a:xfrm>
            <a:off x="1547640" y="3645000"/>
            <a:ext cx="3745080" cy="2079360"/>
          </a:xfrm>
          <a:prstGeom prst="rect">
            <a:avLst/>
          </a:prstGeom>
          <a:ln w="0">
            <a:noFill/>
          </a:ln>
        </p:spPr>
      </p:pic>
      <p:pic>
        <p:nvPicPr>
          <p:cNvPr id="304" name="Kuva 7" descr=""/>
          <p:cNvPicPr/>
          <p:nvPr/>
        </p:nvPicPr>
        <p:blipFill>
          <a:blip r:embed="rId6"/>
          <a:stretch/>
        </p:blipFill>
        <p:spPr>
          <a:xfrm>
            <a:off x="7885080" y="404640"/>
            <a:ext cx="463680" cy="457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9907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000" spc="-1" strike="noStrike">
                <a:solidFill>
                  <a:srgbClr val="800000"/>
                </a:solidFill>
                <a:latin typeface="Calibri"/>
                <a:ea typeface="Calibri"/>
              </a:rPr>
              <a:t>Ongelmia euroidentiteetin rakentamisessa</a:t>
            </a:r>
            <a:endParaRPr b="1" lang="en-US" sz="4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7200" y="2331720"/>
            <a:ext cx="82296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1) Euroopalla sotaisa, imperialistinen ja rasistinen menneisyys: identiteetissä paljon myös negatiiv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2) EU-identiteetti ylhäältä annettua eikä se juuri kiinnosta tavallisia ihmisi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3) euronationalismiin pyritään 1800-luvun keinoilla: lipuin, lauluin – hieman kömpelö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  <a:ea typeface="Calibri"/>
              </a:rPr>
              <a:t>4) euroidentiteettiä vaikea perustaa kulttuuri-identiteetille, joka on kansal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Alatunnisteen paikkamerkki 4"/>
          <p:cNvSpPr/>
          <p:nvPr/>
        </p:nvSpPr>
        <p:spPr>
          <a:xfrm>
            <a:off x="609480" y="6477120"/>
            <a:ext cx="16765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800000"/>
                </a:solidFill>
                <a:latin typeface="Arial"/>
              </a:rPr>
              <a:t>Kansalainen ja Euroopp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Dian numeron paikkamerkki 3"/>
          <p:cNvSpPr/>
          <p:nvPr/>
        </p:nvSpPr>
        <p:spPr>
          <a:xfrm>
            <a:off x="228600" y="6477120"/>
            <a:ext cx="423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A56D4-1D16-4405-B785-5662DCA2446B}" type="slidenum">
              <a:rPr b="0" lang="fi-FI" sz="11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Kuva 7" descr=""/>
          <p:cNvPicPr/>
          <p:nvPr/>
        </p:nvPicPr>
        <p:blipFill>
          <a:blip r:embed="rId5"/>
          <a:stretch/>
        </p:blipFill>
        <p:spPr>
          <a:xfrm>
            <a:off x="7956720" y="404640"/>
            <a:ext cx="463320" cy="4572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9T15:25:51Z</dcterms:created>
  <dc:creator>Ilmari</dc:creator>
  <dc:description/>
  <dc:language>en-US</dc:language>
  <cp:lastModifiedBy>Kaisa</cp:lastModifiedBy>
  <dcterms:modified xsi:type="dcterms:W3CDTF">2011-08-05T09:45:16Z</dcterms:modified>
  <cp:revision>68</cp:revision>
  <dc:subject/>
  <dc:title>I Eurooppalaisuutta etsimässä 1. Mistä tulet, Eurooppa?</dc:title>
</cp:coreProperties>
</file>